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535C-4127-4D97-A9E3-2447B69735D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A85B-9E73-48E0-98ED-E6BEFDDD263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0F9E1-EAC6-441A-ADD6-3E74FFAC89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E5416-4209-4A7B-88D1-2FBD3318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68842-13B1-4DC8-B2A8-C8BB7B0A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D0514-41C8-42BD-AD09-34E23EB2E1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5C3EE-6450-4334-9FA2-E9C0FA7B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5014E-6BB7-4763-B283-6CF843BA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5DBD5-3A3E-4CF3-8F33-C6F56CB2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17287-C584-419C-AA66-B8DB80DE5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ECC63-4525-48FE-9721-D019B6A08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E774E-1149-43C2-8A58-62977080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FC95C-2572-4C21-9A2D-2E9D8352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BF31F-30F3-45C4-8A92-EEEEF8DE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2544-BD02-4C1F-A99B-7E6A6E753D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多发骨折伴休克，经扩容治疗后，神志未清醒，测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中心静脉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进一步的护理重点是什么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如何监测患者病情变化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/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先晶体后胶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复述休克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休克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休克辅助检查项目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休克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和防治感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照无菌技术原则执行各项护理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应用抗菌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、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口腔护理和留置尿管的护理，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意外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床单清洁、平整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患者将输液管道或引流管等拔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续原发疾病治疗或康复，加强对原发病观察，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引起休克疾病的预防，避免各种意外伤害的发生，学会受伤后的紧急救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休克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心排血量、动脉血气分析、动脉血乳酸盐含量等监测休克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机体受到强烈的致病因素侵袭后，导致有效循环血量锐减、组织血液灌流不足所引起的以微循环障碍、代谢障碍和细胞受损为特征的病理性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被汽车撞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急诊入院。患者浅昏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50/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立即查血常规、血型，紧急配血，给予双通道静脉输入平衡盐、代血浆，静滴止血药物等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侧肩胛骨、肱骨头粉碎性骨折，左侧髂骨翼、髋臼及股骨粗隆间粉碎性骨折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：腹腔内无实质脏器破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：未发现颅内血肿及脑挫裂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显著苍白，肢端发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28:06Z</dcterms:modified>
  <cp:revision>96</cp:revision>
  <dc:subject/>
  <dc:title>内科护理学</dc:title>
</cp:coreProperties>
</file>